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3F71-C2A3-4DBF-907E-2EFA89CE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E827-535F-4EFD-91E6-DB38AC18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FF2-79CF-460A-8325-E962C96E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3BD5-8884-4A5C-B7F7-DC5F31DA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838-CE2A-49CC-AE9F-C808EEA7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6252-9460-4E6B-955A-9D71ABF5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8A53-6817-4194-9E21-4AF7EF26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38CD-2A79-457C-951C-968256F3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F317-E5C0-46BB-AA06-8A29D6E7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BB04-197C-4ADA-9ED0-14568EB3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85C0-22E4-4B7B-8AAE-3D2472C9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9A49-A003-4391-92A6-A9E2A773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AA7A-69E3-40C2-8EB8-48EE40330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0980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Algebra Err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wrong.jpg"/>
          <p:cNvPicPr/>
          <p:nvPr/>
        </p:nvPicPr>
        <p:blipFill>
          <a:blip r:embed="rId1"/>
          <a:stretch/>
        </p:blipFill>
        <p:spPr>
          <a:xfrm>
            <a:off x="2639880" y="3048120"/>
            <a:ext cx="35877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celing Errors…one 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143000" y="205740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e can cancel one x from both sides to get 2x = 1 or x = 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is is a solution, but there is something we missed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n you tell what i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1066680" y="5105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219320" y="4038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celing Errors…one 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143000" y="2057400"/>
            <a:ext cx="8001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’s a better way to solve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x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we get everything on one side: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x 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, we factor: x(2x – 1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is we see that  x = 0 OR 2x – 1 = 0 will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still get x = ½, but we also have x = 0 as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1066680" y="5105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1219320" y="4038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my square roo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143000" y="2057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at square root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sitive or ze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066680" y="5105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219320" y="4038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295280" y="2895480"/>
                <a:ext cx="11052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Text Box 9"/>
          <p:cNvSpPr/>
          <p:nvPr/>
        </p:nvSpPr>
        <p:spPr>
          <a:xfrm>
            <a:off x="2514600" y="2895480"/>
            <a:ext cx="2057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    </a:t>
            </a:r>
            <a:r>
              <a:rPr b="0" lang="en-US" sz="24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143000" y="365760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when solving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6, the answer is x = 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my square root?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143000" y="2057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’s the solution with all steps includ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066680" y="5105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219320" y="4038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2514600" y="2895480"/>
            <a:ext cx="2057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676520" y="2666880"/>
                <a:ext cx="126180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rad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" name="Text Box 12"/>
          <p:cNvSpPr/>
          <p:nvPr/>
        </p:nvSpPr>
        <p:spPr>
          <a:xfrm>
            <a:off x="1143000" y="464832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The 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ws up BEFORE not after we take the squar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ction Frenz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14400" y="1981080"/>
            <a:ext cx="80010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write        or       .   But when we writ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 x which do we mean? Writing     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x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lso confu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, writ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+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as   a + b/c + d  might be interpreted a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c + d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+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d.  To make it clear, write (a + b)/(c + d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066680" y="5105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219320" y="4038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2514600" y="2895480"/>
            <a:ext cx="2057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819520" y="1981080"/>
                <a:ext cx="3808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657600" y="1981080"/>
                <a:ext cx="34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181480" y="2819520"/>
                <a:ext cx="2415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066680" y="5105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219320" y="4038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514600" y="2895480"/>
            <a:ext cx="2057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914400" y="1295280"/>
            <a:ext cx="57913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are 6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are –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y 5(x – 4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d (x + y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                                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          .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we simplif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–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133720" y="4038480"/>
                <a:ext cx="25905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b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33720" y="4572000"/>
                <a:ext cx="628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sion by z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143000" y="160020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algebra 1 teacher told you this is wrong.  Your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 told you this is wrong.  Your algebra 2 teacher told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wrong.  Put 2/0 in your calculator and even IT will t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it’s wrong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arrassing i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one knows that 0/2 = 0: nothing out of 2 is still nothing.  Still, far too many people will claim that 2/0 = 0 or even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0 = 2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ight not even not know you’re dividing by 0, as you’ll see in our next examp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609480" y="23623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6"/>
          <p:cNvSpPr/>
          <p:nvPr/>
        </p:nvSpPr>
        <p:spPr>
          <a:xfrm>
            <a:off x="380880" y="1143000"/>
            <a:ext cx="80773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 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y both sides by 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 –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both s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a – b) = (a+b)(a-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 both s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= a +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both sides by a –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= 2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ssumed a = b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both sides by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ed?  Dividing by a – b is dividing by 0, since a =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sed Parenthe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143000" y="1981080"/>
            <a:ext cx="8001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:  Square 4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correct: 4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(4x)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4)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6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2: Square –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correct: -3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-(3)(3) = -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(-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-3)(-3)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sed Parenthe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143000" y="2209680"/>
            <a:ext cx="80010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3:  Subtract 4x – 5 from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-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correct: 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3x – 5 – 4x – 5 = 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– x –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– 5 – (4x – 5)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– 5 – 4x + 5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4: Convert            to fractional ex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correct: = 7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= (7x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/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809880" y="4724280"/>
                <a:ext cx="6922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mplete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143000" y="2209680"/>
            <a:ext cx="80010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:  Multiply 4(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correct: = 8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–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8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40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2: Multiply 3(2x – 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correct: = (6x – 15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36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– 180x + 2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= 3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0x + 25) = 1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0x +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at you must expand the exponent before distribut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umed Ad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143000" y="441972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prove that these aren’t true by simply plugging in some numbers…try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19520" y="1752480"/>
                <a:ext cx="3200400" cy="26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≠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rad>
                        <m:r>
                          <m:t xml:space="preserve">≠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y</m:t>
                            </m:r>
                          </m:e>
                        </m:rad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≠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celing Err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143000" y="20574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: Simplify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–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correct:  3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– x    OR  3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–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1066680" y="5105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’t cancel the x in the denominator against only one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x’s in the numer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590920" y="3844800"/>
                <a:ext cx="289548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Text Box 9"/>
          <p:cNvSpPr/>
          <p:nvPr/>
        </p:nvSpPr>
        <p:spPr>
          <a:xfrm>
            <a:off x="1219320" y="4038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114300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celing Errors…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43000" y="20574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wise, we can’t simplify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–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n you tell why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066680" y="5105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1219320" y="4038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23:28:50Z</dcterms:created>
  <dc:creator>Maia</dc:creator>
  <dc:description/>
  <dc:language>en-US</dc:language>
  <cp:lastModifiedBy>Salem High School</cp:lastModifiedBy>
  <dcterms:modified xsi:type="dcterms:W3CDTF">2011-09-08T15:01:20Z</dcterms:modified>
  <cp:revision>7</cp:revision>
  <dc:subject/>
  <dc:title>PowerPoint Presentation</dc:title>
</cp:coreProperties>
</file>